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A94-F599-42A0-88A0-01171B3F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9F2-F249-4E20-867A-44E6F36C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F64A9-F133-4236-ABB3-51FD1596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94D74-95C3-4BC3-B96C-46770FB8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03442-5914-4B62-8366-02AE31B3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53BF3-6668-4702-8A17-8BAA03D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550D5-78C5-4C93-973B-091950D0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57CAD-9832-443B-A52F-F1F298D2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EF180-8761-46BF-B689-3784406E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16D80-4742-407A-8478-0581FAD1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75103-3D64-443B-9992-0812BB1C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E449F-F9F3-4967-AA01-58A1802A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53A-525C-47C2-BADA-0F80792E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B82A4-8CB4-44DC-B926-0C25669F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6EC0A-2816-421C-A427-A7CC7922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E11E2-2B40-4A5C-A870-5B37FBFC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93040-43E4-4529-BFC6-DB79773C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EC1BF-D148-42D8-AB27-54530F3E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4A6EC-FC29-4370-AC4C-ACEC4F5B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43227-D8C2-4C6E-AB62-D3BD0831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7A8BA-162B-406B-A96F-66F38D31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EC36F-D7B6-4A00-B405-48B09334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ADDAE-0633-4545-BE67-9A015942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538-7A65-4FCD-B3A8-FB473798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427F1-E35D-449A-A65D-781DE8A8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758C4-8DE8-4DFA-B0CD-B4C728EB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DE946-EB22-4DF8-98FF-E568870A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C6F31-0497-43F0-A6B9-22BA7B6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2CEC9-5974-468B-BC53-F90038FA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E7B91-BBB0-4919-812B-0BCECFCF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06CC2-B9E3-4B76-BAE1-31BB30E9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3CE8C-F68C-4A8A-B9CB-57168C24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A511D-C946-4E9B-8B50-406C793C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9C1A6-3EA7-48F3-9646-70017E95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32C0-22B6-4EF0-9E1E-6B7CDFCB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401AA-B281-4A89-9F67-FAE7B428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21C67-4BAD-4EAF-84EB-22AB731F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09A9F-A08D-4EB7-8856-F7A02249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E78D2-6F0A-4B74-974E-4E466A9E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2CC85-6606-4CC8-B2C7-99382C6F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74D56-4EB0-47C7-92F6-D72DBE49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893A0-D4B2-46EF-A3DD-3609525E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3F835-F11E-4413-A1D6-8A860672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686A3-362C-495C-B872-C23BBCC8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62390-CF3F-4134-972A-B6E54304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9D31-8701-447C-818F-16927E2D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9C3EF-5216-411B-9BAA-85346861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B20C1-371F-456C-874E-B5E99C55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D234D-6ED8-4A08-9F3E-37AF14EE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A6454-E314-4423-8994-50C94B80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9E141-69AB-4AB7-9FC7-681BA950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CA753-090F-4466-8623-6793A5A0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CBB42-8A83-47BE-B4AA-0BF7322D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44AE3-047A-40A7-A27E-FF88B64A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597FA-D285-4909-B98F-B87BA6F3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AC447-EDE0-47AB-8453-7970707A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BC74-4DBE-4A9D-894B-2CE64D0A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4414F-C963-4FAE-91D4-73563176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B38C3-E568-4866-B634-610B6BAB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B7432-16D7-4486-9A7E-E682ED1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FE8C9-30D3-4200-B4CC-431B2F32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EAB7E-A1A1-4FEF-9B23-56068567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2531C-5722-440F-9521-394D3D39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DEF1B-9812-4CA6-8B8A-69C93BC8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2578A-B8F5-44EE-A710-2DBC24FF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CE9A1-ADA1-49C3-BCCF-9DA7B15E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975A5-DD67-4FE0-BA1A-C77793DA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4456-CE7B-4DA0-845A-74ACDA5C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3A20E-084B-4BA5-9AEC-392BED77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EB1C5-A1B7-471E-8D50-C6AE2C5D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0EEA3-CCFF-464D-9813-C34E151D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9F875-0D3C-45FF-9367-7BDC6E76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87754-632E-443E-8A85-93C6D5D0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CA6BC-E32C-4201-A70E-DB44E609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7F4CB-CFD4-44F1-B24D-7AFB3B5E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EABD4-1352-4E5B-ACD6-C4204464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D83F3-4500-4CF2-B58E-1CE1A561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B6309-F653-4C78-AE66-1CC9A6BA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ED15-3957-4262-8982-E43C8D96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B6CEC-70A3-467A-9660-8E814BD0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93346-177F-453F-B863-A7436FA1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C962F-FC5C-43B5-BF47-C9500FF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7EEC6-8A1A-42DE-9FD8-80C6CD25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83DEF-88DD-49C8-9B3C-EF787290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D166F-8A42-49C9-9068-37BF102E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5C7C0-6391-4EE6-9241-485D1CD5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4D834-F6C0-4322-A940-DDFE2188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F5041-1AC7-4AB6-ADCC-1318FACF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89E6B-58A5-4F9A-9392-7CB6731D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A774-0E66-4DB6-A077-33A30AF5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CC12A-598D-416C-A92F-695DA8C9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1AA13-F174-4D45-AA72-43CBC52E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3B236-BAF3-458B-B9B3-EA5AA7CC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042F3-8236-4AE1-AA0A-D7F8C106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73383-5FE4-47F3-B737-F397417C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8596F-8CED-46C5-9BD0-E882C12E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15E1A-DF3D-48E7-83D7-CC8C2DDD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133DF-7B5F-4290-BA48-89087C42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E06C3-93F3-4F97-9549-A83CBF4A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A2897-4FAA-42E7-8633-C6FBCEC0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F8D0-5C24-4C70-9D87-CAB8351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32E53-09AC-4205-8899-75D95867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34E84-77FB-4898-A6B8-F088A58C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6876C-BC44-4B49-990A-FC36B826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DEB8E-8FAB-4A3C-9872-88144D21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60C10-BB7E-4EC9-A773-752E5F05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DC158-6D7E-4339-9F60-D40B3B25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2E30A-FD32-4DDF-9DB4-EA558142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4DACF4-F241-4C34-8BB6-93537488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6A8E4-32B5-4144-96E4-BB339EED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ADF20-9119-43F9-A666-71F3967B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EE2-1D82-45D3-B78B-9322BDB2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5922-6878-42A3-8804-FAEBB6D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FCC72-05FA-47DC-A203-08BB0E52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DE55F-D1FF-4797-8C42-475BB38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F65B7-3C71-4D72-9866-15A063F4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A8432-8357-40EA-8202-A1F84929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90313-7DCC-4AC9-94AA-C5A9458F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895CE-8291-4100-A875-5478754A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5AB85-09BF-414D-81EF-6250E41A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7D7B68-27A7-4DDC-AEC0-2686C3A3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EDFE39-840A-4612-9519-D41821AC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078FEC-0260-490C-9F13-7C682E0D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9899-6FB3-4053-A147-CC57035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69396-4701-45EB-9592-5BE5FA68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D9F688-567E-4116-AF77-6F61454B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7198C-83C9-4D64-9984-6204B38C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42BB9-FA72-4535-87D6-E0B227F1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DC8575-C1E2-4AFC-8640-C91F0BF4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934839-32F5-43BE-84CD-6E00299E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8E3E81-5F50-445F-BA56-9EA8B73C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EEADE5-C9BB-412F-9A97-4C051077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E5463C-27FD-48CA-AE90-779B5234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7FF02-A794-4D8C-8E2A-114598B2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CB2C-5FD0-4733-9588-CAEF1ED9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66050-D652-4C62-B2E0-0E9E0B35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073EDE-1CE1-4674-BB02-F4A3C0D5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8B09FE-BCCE-4CEB-839C-96B5242A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3A24E-70C5-4830-8A1A-90B04ED2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35415C-B6E8-444E-A8F6-1716B181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8636C-606A-4E41-88A4-CDFA6E4B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3B60BD-770E-42B5-A8AE-9E1B4CCE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643031-321F-4EE2-985A-B355F153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BCD48-7C6F-4F3F-95AD-F26E0E34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7139ED-2152-4A04-89FC-F5B189D5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D4F8-4C1B-4F89-B329-6B9BA3A5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85C95-78BA-41EE-8A9A-FEE2DC96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08F5C-1698-442B-951A-AA179E7C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8245D0-A354-4FA9-8942-5F39DB8B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F09F66-2BC2-4310-8EE5-D385AB69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00605-FF94-4211-B4D9-7D358F34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F5630A-3C6F-4EB7-9A5E-C41750E2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974E1-E646-4619-B112-04F4ED5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A9CC03-07B4-4694-A19E-E192FFCB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150E30-FE00-443A-9149-B3824A0F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C9A2C-07DF-425D-9E24-882EFF99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F5C7-A8CC-4627-BC9A-BCECC821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6769C-3ED6-4AD2-A52C-F536A864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B95CEA-5EF4-4CA0-96CD-6F6E61C8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87D38-FDE1-4800-8BE5-3ADD7B96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1C634-7D28-4CC9-A882-45397082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82D94-2520-4C18-8788-4EF23DFD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14375-D842-4E40-A40B-8AB19C3F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D99A75-AFD3-4A7B-86B9-DB03DBD4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4BAC12-51E7-44E0-A5EE-71578EB5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7C5F05-0E6B-4A18-A4CE-52DEAD1E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4DE31A-B24A-4A31-B8FD-18E6CDD4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42717-0163-4CDD-A5BF-E8558F45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9C090-B8DD-44B1-8C59-44E7508D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4B065-8AB5-4A04-8371-E8F13A31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083608-BF32-4E1F-AAD9-C2AFDCF1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E4C4-40B7-4226-90DB-06DA2DA7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E3BD-7BB0-43EE-B8A7-79C08C92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3F124-5853-4B73-A718-62E10B5D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9EB5-5BE2-4B3F-A42A-535AF66D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90E-B8E8-4207-9C30-B7E33DFD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0A46-0CD6-4E4A-916D-8C541DB8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0BAC-2C24-499C-B025-0F0EDEF3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7A394-4439-4864-907C-AB74AF44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F207-8D14-499D-9851-3957697C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AB116-B14A-4881-9403-1638E240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22D4-E1E8-4206-8C66-8CAE39F4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6D82-813A-4468-A677-AD03367C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702AD-8977-4AC6-8028-647D4C4A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29C7-0D8A-4BE1-B472-24CA1023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C30BF-4B87-425A-BEF1-CEE0F688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84E-7BEA-4430-8349-7AD1B7D4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8D16-16B9-4D15-A21F-C982813E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83FC-ABE1-4479-90F9-8F28E61C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730CB-EC77-4C71-B428-28A47DF8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723D6-CA2D-4BF3-8D24-880C1A8A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1020F-DFF9-4E0F-84AF-439610E4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4E574-C7C7-4CC6-BD72-51C58E84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DA78-D249-41AC-AD24-A57B93EE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7E2E6-0E21-4D86-BBFA-44EE8C86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6E9A-5E65-4482-B2A1-0F4C2D1B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62D88-3A7A-4E3C-A9AE-BF376341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52A-7658-4612-B38F-FE33CFA5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F373F-D4E3-421B-8B24-77E29636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22EB1-BA2C-40AA-8CEB-6DEBE853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20DB2-3B36-42BC-9646-4D3096E3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E256-368E-42B1-A8D0-FC3A1602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0234B-6681-4625-9415-707B1DDF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6F600-B54C-4E33-847F-2B6E18A7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A47F-1EAF-4480-A77C-D550BB99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D019F-DA99-492C-B999-BE77D793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3C97E-0C5F-43BF-8B3D-933310D5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C5F3-C00C-4F51-9E07-9B7C8987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B72-27BC-47E3-B8F8-15DAF344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8B32C-4427-444C-AA87-3CD75FF6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6D634-2439-4976-834F-DF05A187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413C9-2E9C-40E2-82A4-E74D3E45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1F104-EB5F-4F12-B272-F3438106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9A51D-56B3-4154-AED0-4F976D4A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0586-43EF-403C-B5E5-A7EBE0A3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F4D6B-C29C-4CEC-AE4C-A550D604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7212F-4AB8-478F-94B8-9730352E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1D5C7-7DA2-4F78-9C46-3AC6D55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F7B5E-8D98-4517-892B-0CBC6F0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F51-B48F-4D85-9535-A8DEBCB6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271B4-88F8-4045-AF5A-EE188D25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0F9EC-24C8-4892-8545-607CD8DF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DC4D9-1425-4B7A-8835-DADD073B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96674-D859-4512-A965-C79DA7C1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49081-4FF9-495B-BAD9-C7EDD117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54878-040F-4364-B050-E2472D26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34624-A9B9-4E71-B1FD-57E7F0F0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4CCC4-8A50-4E9D-AD83-1AF7C947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F7736-A00B-4BD0-B860-D0BD795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5CFC0-3514-417D-853C-CD34A343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386-3147-4402-BD29-16A55531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63512-BDD1-4128-9FDF-65B70E56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F7CB0-AC72-44C0-8C9A-EDAA0A57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D58AA-9BB0-4F65-B907-68E2C9AB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9A440-2674-4A0B-826B-151ED14B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3A790-C6D1-4B05-BB3D-138A88C0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3F78B-EDB6-430F-89DB-F4BC3970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C923D-245E-49F2-B52C-5D8F829D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ED0E2-930A-4AB9-8376-FF23C992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CEA7C-7381-4D0C-B848-A04EB8F4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6C905-B8C3-4BDA-A3AE-5583F460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778-0185-4163-972A-19EC2638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EC5CC-B8D2-4E8D-BA0E-DEC7FEDF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792D1-9837-4BCF-B8E8-DE137B47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3321D-8DA2-400F-A832-3268ECA7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7D5C6-BFF3-4E8B-B153-B38081F7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610DD-1895-4A52-967D-66DBF7A3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14B20-BF29-4837-8CA2-C5B0C6A3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1DB5D-4FEA-471A-B508-7B66CCA6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9A17F-8BA4-4B8A-B796-E9F2169A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4C994-344A-43F6-A968-A4AF0FC1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BF1FE-0227-4E97-A8FE-ECE388A9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78AE-590D-4028-A493-8A2166C74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B47E-5622-466F-A78A-A3C4A1694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42F2-EDE6-4D5D-B20A-A2D90AF0ED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3E02-5C5D-4499-AA84-FC83C837A4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0B62-CE8B-4AEF-98AD-8C233F1084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D1DA-EE8B-45CB-B54A-BB51A4C541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05B0-F772-4412-B493-23D830ACE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F77-92FA-40B3-AA88-879C096EC5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183A-8A5B-4816-9CE9-345E35E4CD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528F-0EC9-4904-BE36-E814FD195D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018F-63E0-483F-9F23-E4F3D1B049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873E-A505-44EE-B1EB-633F78B0B0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84DB-B305-4614-8454-BF9E25B72E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BDD6-5969-4FC1-8DF8-73079555FC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91B8-5367-43C5-956F-13C1BC109F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C4FC-FE73-42AD-AD71-A9E090DA72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7A4E-4C66-4472-A53F-09B8BA182C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0372-46B4-4C8C-BC11-F738EC493C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BBDE-3A03-4F3A-9809-F84D0C85E4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A56-5342-473B-AA22-B9C3A442CE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E7F0-8BC0-4C26-BCF6-E54E9B1D45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9DF6-E89B-4493-8CD7-B00BD4392F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EC9B-90BA-4791-AB51-05A8379587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2FDF-B69D-4218-940E-6950A66A72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DA2C-11EB-4DA5-BD4D-050DA2427F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9647-63BF-41BE-A8A9-D00668C173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5D3A-E765-498A-9CC2-70D02FAF34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9FBE-D90B-498F-AD45-D416CF4B2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6C99-8577-4694-9FB5-643C1BB4F9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6A2D-08AC-4705-B8EA-AFC6E9E297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845D-51DB-46BE-ADA9-F16EFA18D8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0FA4-0D84-4ED1-B72A-59D262E541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A0F0-9922-4449-B428-B3A6BEB1B8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EF95-4898-4F10-9F7A-F626672666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6E76-B01E-4944-A55D-AC2D60E33F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FC36-AF24-4C62-A8FE-DEF683932A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7D0D-5E0F-41A7-A298-E2F8BB4D60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9E6A-6273-48ED-815D-1725686769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CE50-2CB5-4CEE-AC04-08C11AF2F8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4166-54F1-47B5-B62E-0D9471FBFF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438120" y="3195720"/>
            <a:ext cx="8267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23840" y="930240"/>
            <a:ext cx="8896320" cy="559908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0" descr=""/>
          <p:cNvPicPr/>
          <p:nvPr/>
        </p:nvPicPr>
        <p:blipFill>
          <a:blip r:embed="rId3"/>
          <a:stretch/>
        </p:blipFill>
        <p:spPr>
          <a:xfrm>
            <a:off x="773280" y="1523880"/>
            <a:ext cx="8191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138240" y="824040"/>
            <a:ext cx="8866080" cy="52099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969840" y="1463760"/>
            <a:ext cx="577800" cy="5144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3865680" y="1427040"/>
            <a:ext cx="577800" cy="5144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6746760" y="1413000"/>
            <a:ext cx="577800" cy="5140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971640" y="2176560"/>
            <a:ext cx="577800" cy="5140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3851280" y="2205000"/>
            <a:ext cx="577800" cy="5144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6732720" y="2176560"/>
            <a:ext cx="577800" cy="5140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1692360" y="5459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9"/>
          <a:stretch/>
        </p:blipFill>
        <p:spPr>
          <a:xfrm>
            <a:off x="3780000" y="5516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0"/>
          <a:stretch/>
        </p:blipFill>
        <p:spPr>
          <a:xfrm>
            <a:off x="5867280" y="54878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1"/>
          <a:stretch/>
        </p:blipFill>
        <p:spPr>
          <a:xfrm>
            <a:off x="8013600" y="55166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28520" y="744480"/>
            <a:ext cx="8885160" cy="601812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6146" descr=""/>
          <p:cNvPicPr/>
          <p:nvPr/>
        </p:nvPicPr>
        <p:blipFill>
          <a:blip r:embed="rId2"/>
          <a:stretch/>
        </p:blipFill>
        <p:spPr>
          <a:xfrm>
            <a:off x="1225440" y="3992400"/>
            <a:ext cx="949320" cy="51624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6147" descr=""/>
          <p:cNvPicPr/>
          <p:nvPr/>
        </p:nvPicPr>
        <p:blipFill>
          <a:blip r:embed="rId3"/>
          <a:stretch/>
        </p:blipFill>
        <p:spPr>
          <a:xfrm>
            <a:off x="4213080" y="3992400"/>
            <a:ext cx="949320" cy="51624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6148" descr=""/>
          <p:cNvPicPr/>
          <p:nvPr/>
        </p:nvPicPr>
        <p:blipFill>
          <a:blip r:embed="rId4"/>
          <a:stretch/>
        </p:blipFill>
        <p:spPr>
          <a:xfrm>
            <a:off x="7207200" y="3992400"/>
            <a:ext cx="949320" cy="51624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6149" descr=""/>
          <p:cNvPicPr/>
          <p:nvPr/>
        </p:nvPicPr>
        <p:blipFill>
          <a:blip r:embed="rId5"/>
          <a:stretch/>
        </p:blipFill>
        <p:spPr>
          <a:xfrm>
            <a:off x="1214280" y="6224760"/>
            <a:ext cx="949320" cy="51588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6150" descr=""/>
          <p:cNvPicPr/>
          <p:nvPr/>
        </p:nvPicPr>
        <p:blipFill>
          <a:blip r:embed="rId6"/>
          <a:stretch/>
        </p:blipFill>
        <p:spPr>
          <a:xfrm>
            <a:off x="4224240" y="6222960"/>
            <a:ext cx="9493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7:41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